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E95-53B9-443F-9619-67F5547A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C7C-2AC6-47E5-A60A-E48FEE1E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E97-059E-49BC-80E7-252BB499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215-2E9F-4EB5-96E2-4659B88A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FC1-899C-4393-A16C-939A8821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27D-9ED1-4916-901F-0DD8C4C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329-7CFF-4033-B726-A45A4F53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431-5465-4D20-8A73-29EC6B5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878-8B5F-43C9-825F-811CF5A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187-888B-448E-A82D-5F7802E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7F0-06F2-4A40-992B-F5EB6B6A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2BF-FAEF-4CFA-8DBA-98C8C15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D446-A555-4417-A0C3-2243E9EB7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ion of convergence – movement from mono to multi functional technolo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xamples (e.g. mobile phone, radio, internet, camera) – pros and cons of old vs new (e.g. music more portable, cheaper), mention very recent tech. (e.g. iPad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cus on Computer as example and growth of interne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cial networking sites (user generated content – “consumer as producer” controlling “means of production” because cheaper, idiot proof – reference Lily Allen as example), reference Marx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FOCUS OF ESS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Downloading (refer to Hertfordshire or other data) – legal (“virtual music store” – mention Apple) and illegal, from Napster to present day (P2P file sharing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ffects on industry (refe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detai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EMI (e.g. A&amp;R department, possible merger with Warner, reduced album sales – loss of this as an “art form”) and Hertfordshire data) – is music industry thriving creatively but the big 4 suffering (i.e. is downloading good or bad for the industry do you think?)?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at are institutions (music industry and government) doing to combat effects of this (reference Panorama)?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reaming (e.g. spotify, youtube) – mention debate about whether or not these can replace illegal downloading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clusion – “convergence has effected the way music is consumed, distributed, produced and exhibited……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5:48:46Z</dcterms:created>
  <dc:creator>#</dc:creator>
  <dc:description/>
  <dc:language>en-US</dc:language>
  <cp:lastModifiedBy>maninder singh</cp:lastModifiedBy>
  <dcterms:modified xsi:type="dcterms:W3CDTF">2010-12-08T14:17:49Z</dcterms:modified>
  <cp:revision>7</cp:revision>
  <dc:subject/>
  <dc:title>Definition of convergence</dc:title>
</cp:coreProperties>
</file>